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2FBA-E8A8-4B81-919E-9D8D0DAC9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78A1-DB0F-4CC5-B07C-164D75C13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B3C9-7AE4-4765-A407-BA832C1F7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3D69-2B54-4278-A439-D0282EA7F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4E90-DA96-4487-BD16-550283BB9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25BF-851C-437F-85F0-2CC6E2CBA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DCBD-CEDB-4E9F-ADC3-6ED74B8C0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18B6-E788-4360-96F0-4660986B1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9E6B-E01F-4E8C-9649-AF0A09041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AD4B-59E5-4344-A794-D253811A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E064-708E-40DF-9115-95C716E5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79D7-6484-46E5-AF26-4492C05A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40892-C25E-4749-98A3-D40FFBE31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" Target="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" Target="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" Target=""/><Relationship Id="rId4" Type="http://schemas.openxmlformats.org/officeDocument/2006/relationships/image" Target="../media/image5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rebuchet MS"/>
              </a:rPr>
              <a:t>Chapter 8.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action of Phot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 Depend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igh energy electrons are passed through th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lectron transport ch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tween photosystem II to photosystem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ergy from the electrons is used to transport H+ ions from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e stroma into the inner thylakoid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 Depend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hits the electrons that are now in photosystem I to excite them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high energy electrons are picked up by NADP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ADP+ also picks up the H+ ions to make NAD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 Depend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the electrons move onto the NADP+,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re H+ ions are pumped across the membr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ually, the outside of the thylakoid becomes negatively charged and the inside becomes positively char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ce in charge provides the energy to mak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 Depend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ylakoid membrane contains an enzyme called ATP synt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+ ions pass through it to synthesize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energy will be used to make energy-containing carbohyd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Biology Interfac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9120" y="6915240"/>
            <a:ext cx="1514520" cy="21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deo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38280" y="4971600"/>
            <a:ext cx="7772400" cy="3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he image to play the video seg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2590920" y="231840"/>
            <a:ext cx="5105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Video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3041640" y="1982880"/>
            <a:ext cx="36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-Dependent Reactions, Par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forward arrow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43840" y="6010200"/>
            <a:ext cx="703440" cy="6732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back-arrow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32840" y="6010200"/>
            <a:ext cx="703080" cy="673200"/>
          </a:xfrm>
          <a:prstGeom prst="rect">
            <a:avLst/>
          </a:prstGeom>
          <a:ln w="0">
            <a:noFill/>
          </a:ln>
        </p:spPr>
      </p:pic>
      <p:pic>
        <p:nvPicPr>
          <p:cNvPr id="161" name="Chapter 08C.mpg" descr=""/>
          <p:cNvPicPr/>
          <p:nvPr/>
        </p:nvPicPr>
        <p:blipFill>
          <a:blip r:embed="rId5"/>
          <a:stretch/>
        </p:blipFill>
        <p:spPr>
          <a:xfrm>
            <a:off x="3144960" y="2378160"/>
            <a:ext cx="2741400" cy="2055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iming>
    <p:tnLst>
      <p:par>
        <p:cTn id="198" dur="indefinite" restart="never" nodeType="tmRoot">
          <p:childTnLst>
            <p:seq>
              <p:cTn id="199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3" dur="1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Biology Interfac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9120" y="6915240"/>
            <a:ext cx="1514520" cy="21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deo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38280" y="4971600"/>
            <a:ext cx="7772400" cy="3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he image to play the video seg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2590920" y="231840"/>
            <a:ext cx="5105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Video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forward arrow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43840" y="6010200"/>
            <a:ext cx="703440" cy="6732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back-arrow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32840" y="6010200"/>
            <a:ext cx="703080" cy="6732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8"/>
          <p:cNvSpPr/>
          <p:nvPr/>
        </p:nvSpPr>
        <p:spPr>
          <a:xfrm>
            <a:off x="3041640" y="1982880"/>
            <a:ext cx="36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-Dependent Reactions, Par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Chapter 08D.mpg" descr=""/>
          <p:cNvPicPr/>
          <p:nvPr/>
        </p:nvPicPr>
        <p:blipFill>
          <a:blip r:embed="rId5"/>
          <a:stretch/>
        </p:blipFill>
        <p:spPr>
          <a:xfrm>
            <a:off x="3144960" y="2378160"/>
            <a:ext cx="2741400" cy="2055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iming>
    <p:tnLst>
      <p:par>
        <p:cTn id="204" dur="indefinite" restart="never" nodeType="tmRoot">
          <p:childTnLst>
            <p:seq>
              <p:cTn id="205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9" dur="1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187280" y="1206360"/>
            <a:ext cx="7075800" cy="462456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3"/>
          <p:cNvSpPr/>
          <p:nvPr/>
        </p:nvSpPr>
        <p:spPr>
          <a:xfrm>
            <a:off x="3855240" y="2220840"/>
            <a:ext cx="1311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on Mov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1898280" y="2538360"/>
            <a:ext cx="136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otosystem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237600" y="3262320"/>
            <a:ext cx="944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ylako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237600" y="4341960"/>
            <a:ext cx="1031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ylako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br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237960" y="5218200"/>
            <a:ext cx="75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o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4986000" y="2830680"/>
            <a:ext cx="12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P synth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9"/>
          <p:cNvSpPr/>
          <p:nvPr/>
        </p:nvSpPr>
        <p:spPr>
          <a:xfrm>
            <a:off x="1854360" y="2768760"/>
            <a:ext cx="368280" cy="180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0"/>
          <p:cNvSpPr/>
          <p:nvPr/>
        </p:nvSpPr>
        <p:spPr>
          <a:xfrm flipH="1">
            <a:off x="1841400" y="4419720"/>
            <a:ext cx="571680" cy="110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1"/>
          <p:cNvSpPr/>
          <p:nvPr/>
        </p:nvSpPr>
        <p:spPr>
          <a:xfrm flipH="1">
            <a:off x="1841040" y="4356000"/>
            <a:ext cx="175284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2"/>
          <p:cNvSpPr/>
          <p:nvPr/>
        </p:nvSpPr>
        <p:spPr>
          <a:xfrm flipH="1">
            <a:off x="3530520" y="4381560"/>
            <a:ext cx="558720" cy="127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3"/>
          <p:cNvSpPr/>
          <p:nvPr/>
        </p:nvSpPr>
        <p:spPr>
          <a:xfrm flipH="1">
            <a:off x="5041440" y="5067360"/>
            <a:ext cx="2667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4"/>
          <p:cNvSpPr/>
          <p:nvPr/>
        </p:nvSpPr>
        <p:spPr>
          <a:xfrm flipV="1">
            <a:off x="5308560" y="3149280"/>
            <a:ext cx="3816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5"/>
          <p:cNvSpPr/>
          <p:nvPr/>
        </p:nvSpPr>
        <p:spPr>
          <a:xfrm flipV="1">
            <a:off x="3911760" y="2666520"/>
            <a:ext cx="317520" cy="40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6"/>
          <p:cNvSpPr/>
          <p:nvPr/>
        </p:nvSpPr>
        <p:spPr>
          <a:xfrm flipH="1" flipV="1">
            <a:off x="4241880" y="2654280"/>
            <a:ext cx="304560" cy="24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7"/>
          <p:cNvSpPr/>
          <p:nvPr/>
        </p:nvSpPr>
        <p:spPr>
          <a:xfrm>
            <a:off x="1848600" y="5433840"/>
            <a:ext cx="1459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port Ch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8"/>
          <p:cNvSpPr/>
          <p:nvPr/>
        </p:nvSpPr>
        <p:spPr>
          <a:xfrm>
            <a:off x="3511440" y="5560920"/>
            <a:ext cx="13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otosystem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9"/>
          <p:cNvSpPr/>
          <p:nvPr/>
        </p:nvSpPr>
        <p:spPr>
          <a:xfrm>
            <a:off x="5063040" y="5560920"/>
            <a:ext cx="137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P 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0"/>
          <p:cNvSpPr/>
          <p:nvPr/>
        </p:nvSpPr>
        <p:spPr>
          <a:xfrm>
            <a:off x="6993720" y="251316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loropl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1"/>
          <p:cNvSpPr/>
          <p:nvPr/>
        </p:nvSpPr>
        <p:spPr>
          <a:xfrm>
            <a:off x="838080" y="762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8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590920" y="231840"/>
            <a:ext cx="6224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gure 8-10 Light-Dependent Re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5"/>
          <p:cNvSpPr/>
          <p:nvPr/>
        </p:nvSpPr>
        <p:spPr>
          <a:xfrm>
            <a:off x="1676520" y="3808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ght Dependent Re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 Depend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light-dependent"/>
          <p:cNvPicPr/>
          <p:nvPr/>
        </p:nvPicPr>
        <p:blipFill>
          <a:blip r:embed="rId1"/>
          <a:stretch/>
        </p:blipFill>
        <p:spPr>
          <a:xfrm>
            <a:off x="838080" y="1203480"/>
            <a:ext cx="746784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 Independ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known as th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lvin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ts use the energy tha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TP and NADP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tain to build high-energy compounds that can be stored for a long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not require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 Independ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ix carbon dioxid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ecules enter the cycle from the atmosphere to produce 1  6-carbon su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the cycle continues,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2 3-carb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ecules are cre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3-carbon molecules obtain energy from ATP and NADPH to become high energy 3-carbon molecu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chloroplast"/>
          <p:cNvPicPr/>
          <p:nvPr/>
        </p:nvPicPr>
        <p:blipFill>
          <a:blip r:embed="rId1"/>
          <a:stretch/>
        </p:blipFill>
        <p:spPr>
          <a:xfrm>
            <a:off x="1295280" y="1600200"/>
            <a:ext cx="7010640" cy="52578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hloropl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e of photo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 Independ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of the 12 3-carbon molecules are removed from the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mak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ugars, lipids, amino acids, and other materia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eeded for plant metabolism and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 of the 3-carbon molecules combine to mak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6 5-carbon molec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s that Affect Photosynthe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ce of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water slows down photosynth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ts also have evolved ways to help prevent water loss (waxy covering on leav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zymes function best at 0-35 degrees Celsi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nsity of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ing light intensity increases the rate of photosynth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a certain amount of light intensity where the amount of photosynthesis within a plant does not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Biology Interfac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9120" y="6915240"/>
            <a:ext cx="1514520" cy="21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deo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38280" y="4971600"/>
            <a:ext cx="7772400" cy="3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he image to play the video seg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2590920" y="231840"/>
            <a:ext cx="5105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Video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3040200" y="198288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vin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7" descr="forward arrow"/>
          <p:cNvPicPr/>
          <p:nvPr/>
        </p:nvPicPr>
        <p:blipFill>
          <a:blip r:embed="rId2"/>
          <a:stretch/>
        </p:blipFill>
        <p:spPr>
          <a:xfrm>
            <a:off x="8043840" y="6010200"/>
            <a:ext cx="703440" cy="6732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back-arrow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32840" y="6010200"/>
            <a:ext cx="703080" cy="673200"/>
          </a:xfrm>
          <a:prstGeom prst="rect">
            <a:avLst/>
          </a:prstGeom>
          <a:ln w="0">
            <a:noFill/>
          </a:ln>
        </p:spPr>
      </p:pic>
      <p:pic>
        <p:nvPicPr>
          <p:cNvPr id="209" name="Chapter 08E.mpg" descr=""/>
          <p:cNvPicPr/>
          <p:nvPr/>
        </p:nvPicPr>
        <p:blipFill>
          <a:blip r:embed="rId5"/>
          <a:stretch/>
        </p:blipFill>
        <p:spPr>
          <a:xfrm>
            <a:off x="3144960" y="2378160"/>
            <a:ext cx="2741400" cy="2055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iming>
    <p:tnLst>
      <p:par>
        <p:cTn id="313" dur="indefinite" restart="never" nodeType="tmRoot">
          <p:childTnLst>
            <p:seq>
              <p:cTn id="314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315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18" dur="1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882720" y="1447920"/>
            <a:ext cx="7815240" cy="418932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3"/>
          <p:cNvSpPr/>
          <p:nvPr/>
        </p:nvSpPr>
        <p:spPr>
          <a:xfrm>
            <a:off x="6972480" y="3708360"/>
            <a:ext cx="87624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7018560" y="3605040"/>
            <a:ext cx="109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loropI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1064160" y="1712880"/>
            <a:ext cx="1846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ters the 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4413960" y="2195640"/>
            <a:ext cx="119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ergy 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1036800" y="4202280"/>
            <a:ext cx="1211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-Carb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lec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ener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1691280" y="5662440"/>
            <a:ext cx="252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gars and other compou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3830400" y="4875120"/>
            <a:ext cx="144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-Carbon Sug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du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838080" y="762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8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2590920" y="231840"/>
            <a:ext cx="5105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gure 8-11 Calvin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8" descr="calvin"/>
          <p:cNvPicPr/>
          <p:nvPr/>
        </p:nvPicPr>
        <p:blipFill>
          <a:blip r:embed="rId1"/>
          <a:stretch/>
        </p:blipFill>
        <p:spPr>
          <a:xfrm>
            <a:off x="1474920" y="0"/>
            <a:ext cx="6637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hloropl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ner membran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ylako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ly folded so there is an increased surface area for absorption of sun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s of thylakoid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usters of chlorophyll and other pigment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ot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 filling of chloroplas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o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 Carr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arrier molecule is a compound that can accept a pair of high-energy electrons and transfer them along with most of their energy to another molec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electron carrier of photosynthesis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ADP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s into NADPH when it is carrying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two different groupings of photosystems in phot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 dependent 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ppens on th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ylakoid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2 photosystems (II and 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 independent 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ppens in th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r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known as th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alvin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003320" y="1352520"/>
            <a:ext cx="6993000" cy="43434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6371640" y="260208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loropl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4"/>
          <p:cNvGrpSpPr/>
          <p:nvPr/>
        </p:nvGrpSpPr>
        <p:grpSpPr>
          <a:xfrm>
            <a:off x="2093760" y="2320920"/>
            <a:ext cx="587520" cy="3685680"/>
            <a:chOff x="2093760" y="2320920"/>
            <a:chExt cx="587520" cy="3685680"/>
          </a:xfrm>
        </p:grpSpPr>
        <p:sp>
          <p:nvSpPr>
            <p:cNvPr id="55" name="Text Box 5"/>
            <p:cNvSpPr/>
            <p:nvPr/>
          </p:nvSpPr>
          <p:spPr>
            <a:xfrm>
              <a:off x="2093760" y="2320920"/>
              <a:ext cx="58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6"/>
            <p:cNvSpPr/>
            <p:nvPr/>
          </p:nvSpPr>
          <p:spPr>
            <a:xfrm>
              <a:off x="2266200" y="5635800"/>
              <a:ext cx="403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7"/>
          <p:cNvGrpSpPr/>
          <p:nvPr/>
        </p:nvGrpSpPr>
        <p:grpSpPr>
          <a:xfrm>
            <a:off x="4291200" y="2320920"/>
            <a:ext cx="823680" cy="3474360"/>
            <a:chOff x="4291200" y="2320920"/>
            <a:chExt cx="823680" cy="3474360"/>
          </a:xfrm>
        </p:grpSpPr>
        <p:sp>
          <p:nvSpPr>
            <p:cNvPr id="58" name="Text Box 8"/>
            <p:cNvSpPr/>
            <p:nvPr/>
          </p:nvSpPr>
          <p:spPr>
            <a:xfrm>
              <a:off x="4291200" y="5457960"/>
              <a:ext cx="82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uga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9"/>
            <p:cNvSpPr/>
            <p:nvPr/>
          </p:nvSpPr>
          <p:spPr>
            <a:xfrm>
              <a:off x="4412520" y="2320920"/>
              <a:ext cx="549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Text Box 10"/>
          <p:cNvSpPr/>
          <p:nvPr/>
        </p:nvSpPr>
        <p:spPr>
          <a:xfrm>
            <a:off x="1926000" y="3868560"/>
            <a:ext cx="11026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ght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4264200" y="3871800"/>
            <a:ext cx="746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v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3146760" y="4657680"/>
            <a:ext cx="89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DP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3274560" y="43527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3097080" y="322272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P + 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5"/>
          <p:cNvSpPr/>
          <p:nvPr/>
        </p:nvSpPr>
        <p:spPr>
          <a:xfrm>
            <a:off x="3204000" y="295596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DP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288360" y="289404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loropl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7"/>
          <p:cNvSpPr/>
          <p:nvPr/>
        </p:nvSpPr>
        <p:spPr>
          <a:xfrm>
            <a:off x="838080" y="762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8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8"/>
          <p:cNvSpPr/>
          <p:nvPr/>
        </p:nvSpPr>
        <p:spPr>
          <a:xfrm>
            <a:off x="2590920" y="231840"/>
            <a:ext cx="640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gure 8-7 Photosynthesis: An 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9"/>
          <p:cNvSpPr/>
          <p:nvPr/>
        </p:nvSpPr>
        <p:spPr>
          <a:xfrm>
            <a:off x="1281960" y="23223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Oval 2"/>
          <p:cNvSpPr/>
          <p:nvPr/>
        </p:nvSpPr>
        <p:spPr>
          <a:xfrm>
            <a:off x="4197240" y="1143000"/>
            <a:ext cx="1816200" cy="774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3"/>
          <p:cNvSpPr/>
          <p:nvPr/>
        </p:nvSpPr>
        <p:spPr>
          <a:xfrm>
            <a:off x="50760" y="4730760"/>
            <a:ext cx="1146240" cy="488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4"/>
          <p:cNvSpPr/>
          <p:nvPr/>
        </p:nvSpPr>
        <p:spPr>
          <a:xfrm>
            <a:off x="6778800" y="4660920"/>
            <a:ext cx="1473120" cy="6285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5"/>
          <p:cNvSpPr/>
          <p:nvPr/>
        </p:nvSpPr>
        <p:spPr>
          <a:xfrm>
            <a:off x="3746520" y="4686480"/>
            <a:ext cx="1473120" cy="6285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6"/>
          <p:cNvSpPr/>
          <p:nvPr/>
        </p:nvSpPr>
        <p:spPr>
          <a:xfrm>
            <a:off x="5842080" y="3600360"/>
            <a:ext cx="1473120" cy="628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7"/>
          <p:cNvSpPr/>
          <p:nvPr/>
        </p:nvSpPr>
        <p:spPr>
          <a:xfrm>
            <a:off x="7607160" y="3600360"/>
            <a:ext cx="1473480" cy="628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8"/>
          <p:cNvSpPr/>
          <p:nvPr/>
        </p:nvSpPr>
        <p:spPr>
          <a:xfrm>
            <a:off x="2768760" y="3600360"/>
            <a:ext cx="1473120" cy="628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9"/>
          <p:cNvSpPr/>
          <p:nvPr/>
        </p:nvSpPr>
        <p:spPr>
          <a:xfrm>
            <a:off x="812880" y="3600360"/>
            <a:ext cx="1473120" cy="628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10"/>
          <p:cNvSpPr/>
          <p:nvPr/>
        </p:nvSpPr>
        <p:spPr>
          <a:xfrm>
            <a:off x="6724800" y="2476440"/>
            <a:ext cx="1473120" cy="6285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1"/>
          <p:cNvSpPr/>
          <p:nvPr/>
        </p:nvSpPr>
        <p:spPr>
          <a:xfrm>
            <a:off x="1765440" y="2514600"/>
            <a:ext cx="1473120" cy="6285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4254120" y="1332000"/>
            <a:ext cx="17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3"/>
          <p:cNvSpPr/>
          <p:nvPr/>
        </p:nvSpPr>
        <p:spPr>
          <a:xfrm>
            <a:off x="5092560" y="1917720"/>
            <a:ext cx="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4"/>
          <p:cNvSpPr/>
          <p:nvPr/>
        </p:nvSpPr>
        <p:spPr>
          <a:xfrm>
            <a:off x="5092560" y="220968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5"/>
          <p:cNvSpPr/>
          <p:nvPr/>
        </p:nvSpPr>
        <p:spPr>
          <a:xfrm>
            <a:off x="2565360" y="2324160"/>
            <a:ext cx="490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6"/>
          <p:cNvSpPr/>
          <p:nvPr/>
        </p:nvSpPr>
        <p:spPr>
          <a:xfrm>
            <a:off x="2565360" y="23241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>
            <a:off x="7467480" y="2327400"/>
            <a:ext cx="0" cy="16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8"/>
          <p:cNvSpPr/>
          <p:nvPr/>
        </p:nvSpPr>
        <p:spPr>
          <a:xfrm>
            <a:off x="2489040" y="3149640"/>
            <a:ext cx="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9"/>
          <p:cNvSpPr/>
          <p:nvPr/>
        </p:nvSpPr>
        <p:spPr>
          <a:xfrm>
            <a:off x="7493040" y="3111480"/>
            <a:ext cx="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0"/>
          <p:cNvSpPr/>
          <p:nvPr/>
        </p:nvSpPr>
        <p:spPr>
          <a:xfrm>
            <a:off x="1536840" y="325116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21"/>
          <p:cNvSpPr/>
          <p:nvPr/>
        </p:nvSpPr>
        <p:spPr>
          <a:xfrm>
            <a:off x="1536840" y="3422520"/>
            <a:ext cx="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2"/>
          <p:cNvSpPr/>
          <p:nvPr/>
        </p:nvSpPr>
        <p:spPr>
          <a:xfrm>
            <a:off x="3517920" y="3422520"/>
            <a:ext cx="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3"/>
          <p:cNvSpPr/>
          <p:nvPr/>
        </p:nvSpPr>
        <p:spPr>
          <a:xfrm>
            <a:off x="1536840" y="3251160"/>
            <a:ext cx="0" cy="2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4"/>
          <p:cNvSpPr/>
          <p:nvPr/>
        </p:nvSpPr>
        <p:spPr>
          <a:xfrm>
            <a:off x="3517920" y="3260880"/>
            <a:ext cx="0" cy="2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5"/>
          <p:cNvSpPr/>
          <p:nvPr/>
        </p:nvSpPr>
        <p:spPr>
          <a:xfrm>
            <a:off x="6553080" y="3467160"/>
            <a:ext cx="179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6"/>
          <p:cNvSpPr/>
          <p:nvPr/>
        </p:nvSpPr>
        <p:spPr>
          <a:xfrm>
            <a:off x="6553080" y="34797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7"/>
          <p:cNvSpPr/>
          <p:nvPr/>
        </p:nvSpPr>
        <p:spPr>
          <a:xfrm>
            <a:off x="8344080" y="34797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8"/>
          <p:cNvSpPr/>
          <p:nvPr/>
        </p:nvSpPr>
        <p:spPr>
          <a:xfrm>
            <a:off x="7493040" y="3352680"/>
            <a:ext cx="0" cy="10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29"/>
          <p:cNvSpPr/>
          <p:nvPr/>
        </p:nvSpPr>
        <p:spPr>
          <a:xfrm>
            <a:off x="1270080" y="4730760"/>
            <a:ext cx="1146240" cy="488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30"/>
          <p:cNvSpPr/>
          <p:nvPr/>
        </p:nvSpPr>
        <p:spPr>
          <a:xfrm>
            <a:off x="2527200" y="4730760"/>
            <a:ext cx="1146240" cy="488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31"/>
          <p:cNvSpPr/>
          <p:nvPr/>
        </p:nvSpPr>
        <p:spPr>
          <a:xfrm>
            <a:off x="4330800" y="3638520"/>
            <a:ext cx="1323720" cy="565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2"/>
          <p:cNvSpPr/>
          <p:nvPr/>
        </p:nvSpPr>
        <p:spPr>
          <a:xfrm flipH="1">
            <a:off x="5334120" y="3352680"/>
            <a:ext cx="568080" cy="3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3"/>
          <p:cNvSpPr/>
          <p:nvPr/>
        </p:nvSpPr>
        <p:spPr>
          <a:xfrm flipH="1">
            <a:off x="6298920" y="2870280"/>
            <a:ext cx="44460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34"/>
          <p:cNvSpPr/>
          <p:nvPr/>
        </p:nvSpPr>
        <p:spPr>
          <a:xfrm>
            <a:off x="1530360" y="4238640"/>
            <a:ext cx="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35"/>
          <p:cNvSpPr/>
          <p:nvPr/>
        </p:nvSpPr>
        <p:spPr>
          <a:xfrm>
            <a:off x="1860480" y="4508640"/>
            <a:ext cx="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6"/>
          <p:cNvSpPr/>
          <p:nvPr/>
        </p:nvSpPr>
        <p:spPr>
          <a:xfrm>
            <a:off x="622440" y="4508640"/>
            <a:ext cx="249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37"/>
          <p:cNvSpPr/>
          <p:nvPr/>
        </p:nvSpPr>
        <p:spPr>
          <a:xfrm>
            <a:off x="622440" y="4508640"/>
            <a:ext cx="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8"/>
          <p:cNvSpPr/>
          <p:nvPr/>
        </p:nvSpPr>
        <p:spPr>
          <a:xfrm>
            <a:off x="3114720" y="4511520"/>
            <a:ext cx="0" cy="22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9"/>
          <p:cNvSpPr/>
          <p:nvPr/>
        </p:nvSpPr>
        <p:spPr>
          <a:xfrm>
            <a:off x="3502080" y="42321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40"/>
          <p:cNvSpPr/>
          <p:nvPr/>
        </p:nvSpPr>
        <p:spPr>
          <a:xfrm>
            <a:off x="5000760" y="4203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3498840" y="4378320"/>
            <a:ext cx="1501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42"/>
          <p:cNvSpPr/>
          <p:nvPr/>
        </p:nvSpPr>
        <p:spPr>
          <a:xfrm>
            <a:off x="4486320" y="4381560"/>
            <a:ext cx="0" cy="6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43"/>
          <p:cNvSpPr/>
          <p:nvPr/>
        </p:nvSpPr>
        <p:spPr>
          <a:xfrm>
            <a:off x="4486320" y="4565520"/>
            <a:ext cx="0" cy="13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44"/>
          <p:cNvSpPr/>
          <p:nvPr/>
        </p:nvSpPr>
        <p:spPr>
          <a:xfrm>
            <a:off x="6568920" y="4229280"/>
            <a:ext cx="0" cy="14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45"/>
          <p:cNvSpPr/>
          <p:nvPr/>
        </p:nvSpPr>
        <p:spPr>
          <a:xfrm>
            <a:off x="8353440" y="4229280"/>
            <a:ext cx="0" cy="14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46"/>
          <p:cNvSpPr/>
          <p:nvPr/>
        </p:nvSpPr>
        <p:spPr>
          <a:xfrm>
            <a:off x="6568920" y="4381560"/>
            <a:ext cx="177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47"/>
          <p:cNvSpPr/>
          <p:nvPr/>
        </p:nvSpPr>
        <p:spPr>
          <a:xfrm>
            <a:off x="7527960" y="4384800"/>
            <a:ext cx="0" cy="5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48"/>
          <p:cNvSpPr/>
          <p:nvPr/>
        </p:nvSpPr>
        <p:spPr>
          <a:xfrm>
            <a:off x="7527960" y="4533840"/>
            <a:ext cx="0" cy="130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9"/>
          <p:cNvSpPr/>
          <p:nvPr/>
        </p:nvSpPr>
        <p:spPr>
          <a:xfrm>
            <a:off x="4682880" y="195408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0"/>
          <p:cNvSpPr/>
          <p:nvPr/>
        </p:nvSpPr>
        <p:spPr>
          <a:xfrm>
            <a:off x="4318920" y="437688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1"/>
          <p:cNvSpPr/>
          <p:nvPr/>
        </p:nvSpPr>
        <p:spPr>
          <a:xfrm>
            <a:off x="2905560" y="3211560"/>
            <a:ext cx="118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ke place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2"/>
          <p:cNvSpPr/>
          <p:nvPr/>
        </p:nvSpPr>
        <p:spPr>
          <a:xfrm>
            <a:off x="5483160" y="3084480"/>
            <a:ext cx="127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kes place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3"/>
          <p:cNvSpPr/>
          <p:nvPr/>
        </p:nvSpPr>
        <p:spPr>
          <a:xfrm>
            <a:off x="7213680" y="312264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4"/>
          <p:cNvSpPr/>
          <p:nvPr/>
        </p:nvSpPr>
        <p:spPr>
          <a:xfrm>
            <a:off x="1001160" y="4253040"/>
            <a:ext cx="102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produ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5"/>
          <p:cNvSpPr/>
          <p:nvPr/>
        </p:nvSpPr>
        <p:spPr>
          <a:xfrm>
            <a:off x="6995880" y="4329000"/>
            <a:ext cx="102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produ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6"/>
          <p:cNvSpPr/>
          <p:nvPr/>
        </p:nvSpPr>
        <p:spPr>
          <a:xfrm>
            <a:off x="1321200" y="3186000"/>
            <a:ext cx="4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57"/>
          <p:cNvGrpSpPr/>
          <p:nvPr/>
        </p:nvGrpSpPr>
        <p:grpSpPr>
          <a:xfrm>
            <a:off x="1941840" y="2487600"/>
            <a:ext cx="6141240" cy="677160"/>
            <a:chOff x="1941840" y="2487600"/>
            <a:chExt cx="6141240" cy="677160"/>
          </a:xfrm>
        </p:grpSpPr>
        <p:sp>
          <p:nvSpPr>
            <p:cNvPr id="126" name="Text Box 58"/>
            <p:cNvSpPr/>
            <p:nvPr/>
          </p:nvSpPr>
          <p:spPr>
            <a:xfrm>
              <a:off x="1941840" y="2487600"/>
              <a:ext cx="1139400" cy="67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ight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pend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ac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59"/>
            <p:cNvSpPr/>
            <p:nvPr/>
          </p:nvSpPr>
          <p:spPr>
            <a:xfrm>
              <a:off x="6815880" y="2612880"/>
              <a:ext cx="126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alvin cyc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60"/>
          <p:cNvGrpSpPr/>
          <p:nvPr/>
        </p:nvGrpSpPr>
        <p:grpSpPr>
          <a:xfrm>
            <a:off x="965160" y="3693960"/>
            <a:ext cx="7848000" cy="482760"/>
            <a:chOff x="965160" y="3693960"/>
            <a:chExt cx="7848000" cy="482760"/>
          </a:xfrm>
        </p:grpSpPr>
        <p:sp>
          <p:nvSpPr>
            <p:cNvPr id="129" name="Text Box 61"/>
            <p:cNvSpPr/>
            <p:nvPr/>
          </p:nvSpPr>
          <p:spPr>
            <a:xfrm>
              <a:off x="2882160" y="3693960"/>
              <a:ext cx="125208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hylakoi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mbra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62"/>
            <p:cNvSpPr/>
            <p:nvPr/>
          </p:nvSpPr>
          <p:spPr>
            <a:xfrm>
              <a:off x="4558680" y="3743280"/>
              <a:ext cx="83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rom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63"/>
            <p:cNvSpPr/>
            <p:nvPr/>
          </p:nvSpPr>
          <p:spPr>
            <a:xfrm>
              <a:off x="7922160" y="3743280"/>
              <a:ext cx="89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DP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64"/>
            <p:cNvSpPr/>
            <p:nvPr/>
          </p:nvSpPr>
          <p:spPr>
            <a:xfrm>
              <a:off x="6284520" y="3730680"/>
              <a:ext cx="57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65"/>
            <p:cNvSpPr/>
            <p:nvPr/>
          </p:nvSpPr>
          <p:spPr>
            <a:xfrm>
              <a:off x="965160" y="3693960"/>
              <a:ext cx="128556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nergy fro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unligh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66"/>
          <p:cNvGrpSpPr/>
          <p:nvPr/>
        </p:nvGrpSpPr>
        <p:grpSpPr>
          <a:xfrm>
            <a:off x="328320" y="4761000"/>
            <a:ext cx="7826400" cy="482760"/>
            <a:chOff x="328320" y="4761000"/>
            <a:chExt cx="7826400" cy="482760"/>
          </a:xfrm>
        </p:grpSpPr>
        <p:sp>
          <p:nvSpPr>
            <p:cNvPr id="135" name="Text Box 67"/>
            <p:cNvSpPr/>
            <p:nvPr/>
          </p:nvSpPr>
          <p:spPr>
            <a:xfrm>
              <a:off x="328320" y="4824360"/>
              <a:ext cx="5752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68"/>
            <p:cNvSpPr/>
            <p:nvPr/>
          </p:nvSpPr>
          <p:spPr>
            <a:xfrm>
              <a:off x="1381680" y="4824360"/>
              <a:ext cx="8910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DP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69"/>
            <p:cNvSpPr/>
            <p:nvPr/>
          </p:nvSpPr>
          <p:spPr>
            <a:xfrm>
              <a:off x="2875680" y="4824360"/>
              <a:ext cx="403200" cy="31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70"/>
            <p:cNvSpPr/>
            <p:nvPr/>
          </p:nvSpPr>
          <p:spPr>
            <a:xfrm>
              <a:off x="3819960" y="4849920"/>
              <a:ext cx="13100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hloroplas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71"/>
            <p:cNvSpPr/>
            <p:nvPr/>
          </p:nvSpPr>
          <p:spPr>
            <a:xfrm>
              <a:off x="6869160" y="4761000"/>
              <a:ext cx="128556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igh-energ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uga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Text Box 72"/>
          <p:cNvSpPr/>
          <p:nvPr/>
        </p:nvSpPr>
        <p:spPr>
          <a:xfrm>
            <a:off x="838080" y="762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8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3"/>
          <p:cNvSpPr/>
          <p:nvPr/>
        </p:nvSpPr>
        <p:spPr>
          <a:xfrm>
            <a:off x="2590920" y="231840"/>
            <a:ext cx="5105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oncept 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 Depend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of photosynthesis that requires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light energy to produce ATP and NADPH, as well as 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 Depend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gments of photosystem II absorb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 is absorbed by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energy electrons are transferred to NADP+ (electron carrier molecu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electrons are replaced by electrons produced by the breakdown of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is broken down into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 electrons, 2 H+ ions, and 1 oxygen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ygen is rele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ogen is broken apart and released inside the thylako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6:50:10Z</dcterms:created>
  <dc:creator>bpalme</dc:creator>
  <dc:description/>
  <dc:language>en-US</dc:language>
  <cp:lastModifiedBy>Preferred Customer</cp:lastModifiedBy>
  <dcterms:modified xsi:type="dcterms:W3CDTF">2009-12-20T15:24:43Z</dcterms:modified>
  <cp:revision>22</cp:revision>
  <dc:subject/>
  <dc:title>Chapter 8.2</dc:title>
</cp:coreProperties>
</file>